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F55-1322-4483-AA4E-F5CF6C4A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ECE-8EEA-467B-90F3-A2E2B782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1B7-75E0-409F-9811-E6F13011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7A5-DC76-4D56-A7F4-71085F30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5D8-73EF-4EB6-A3C3-E602311B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0AA-4A39-4D2E-B99F-BACE7D50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859-3F71-48C7-8400-9115E60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1DA-62EC-4D64-95DF-6BD734F4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5F8-E837-47CB-8922-C733D5E9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6A9-DF2E-427F-B912-89FACC6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9BC-696E-48CC-A4FB-789E3F00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D38-CD8D-4858-93D0-6DA62A6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02B-EEDE-471E-9136-3493DF2E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694320" cy="386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404640"/>
            <a:ext cx="73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7520">
                  <a:solidFill>
                    <a:srgbClr val="11cce5"/>
                  </a:solidFill>
                  <a:miter/>
                </a:ln>
                <a:solidFill>
                  <a:srgbClr val="5ef1f8"/>
                </a:solidFill>
                <a:latin typeface="Goudy Stout"/>
              </a:rPr>
              <a:t>Whaling</a:t>
            </a:r>
            <a:endParaRPr b="1" lang="en-US" sz="1800" spc="1" strike="noStrike">
              <a:ln w="47520">
                <a:solidFill>
                  <a:srgbClr val="11cce5"/>
                </a:solidFill>
                <a:miter/>
              </a:ln>
              <a:solidFill>
                <a:srgbClr val="5ef1f8"/>
              </a:solidFill>
              <a:latin typeface="Goudy Stout"/>
              <a:ea typeface="Goudy Stout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6093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y Alex &amp;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70028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Green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The </a:t>
            </a: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International whaling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Planet 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Wildlife Warri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WWF ( World Wildlife F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419120" cy="2038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476280"/>
            <a:ext cx="63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rganisations that are helping the Wh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51280" y="4653000"/>
            <a:ext cx="1523880" cy="1438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32720" y="443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96360" y="1197000"/>
            <a:ext cx="121104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50920" y="3789360"/>
            <a:ext cx="1944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60280"/>
            <a:ext cx="80852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Some ways that we can help wha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Become an Ocean Defender , get your friends to sign up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cce5"/>
                </a:solidFill>
                <a:latin typeface="Century Gothic"/>
              </a:rPr>
              <a:t>http://www.greenpeace.org/international/getinvolved/sign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Become a wildlife warrior like Bindi Irwin http://www.wildlifewarriors.org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Keep the oceans free of rubbish. Everything you drop on the ground goes into the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  <a:ea typeface="ＭＳ Ｐゴシック"/>
              </a:rPr>
              <a:t>Spread the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http://www.savethewhale.org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469" b="0"/>
          <a:stretch/>
        </p:blipFill>
        <p:spPr>
          <a:xfrm>
            <a:off x="5435640" y="2852640"/>
            <a:ext cx="34560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189000"/>
            <a:ext cx="720108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ebsites to visi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greenpeace.org/international/getinvolved/sign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11cce5"/>
                </a:solidFill>
                <a:latin typeface="Arial"/>
                <a:ea typeface="ＭＳ Ｐゴシック"/>
              </a:rPr>
              <a:t>http://www.wildlifewarriors.org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savethewhale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oceans.greenpeace.org/en/fun-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activism.greenpeace.org/whaleflip/?MM_URL=Whale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whalesrevenge.com/?MM_URL=WhaleRev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activism.greenpeace.org/whaleflip/?MM_URL=Whale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greenpeace.org/international/campaigns/whalevision?MM_URL=Wha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usic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http://www.greenpeace.org/international/campaigns/whalevision?MM_URL=Wha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376720" cy="185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71640" y="907920"/>
            <a:ext cx="7157880" cy="14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11cce5"/>
                  </a:solidFill>
                  <a:miter/>
                </a:ln>
                <a:solidFill>
                  <a:srgbClr val="5ef1f8">
                    <a:alpha val="90000"/>
                  </a:srgbClr>
                </a:solidFill>
                <a:latin typeface="Century Gothic"/>
              </a:rPr>
              <a:t>Thanks for Watching</a:t>
            </a:r>
            <a:endParaRPr b="1" lang="en-US" sz="1800" spc="1" strike="noStrike">
              <a:ln w="41400">
                <a:solidFill>
                  <a:srgbClr val="11cce5"/>
                </a:solidFill>
                <a:miter/>
              </a:ln>
              <a:solidFill>
                <a:srgbClr val="5ef1f8">
                  <a:alpha val="90000"/>
                </a:srgbClr>
              </a:solidFill>
              <a:latin typeface="Century Gothic"/>
              <a:ea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-243000"/>
            <a:ext cx="417672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0" spc="-1" strike="noStrike">
                <a:solidFill>
                  <a:srgbClr val="ffff00"/>
                </a:solidFill>
                <a:latin typeface="Arial"/>
                <a:ea typeface="Arial"/>
              </a:rPr>
              <a:t>☺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404640"/>
            <a:ext cx="79930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What is Wha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Humans killing whales in the oce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Humans have been hunting whales for about 6,000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Because of other threats and whaling this has led to at least 5 of the 13 species of whales being listed as endang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104920" cy="220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201760" cy="23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25567" b="0"/>
          <a:stretch/>
        </p:blipFill>
        <p:spPr>
          <a:xfrm>
            <a:off x="2916360" y="3573360"/>
            <a:ext cx="3024000" cy="274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68360" y="4869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486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500280"/>
            <a:ext cx="2016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89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Species of wh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765000"/>
            <a:ext cx="5329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Blue whale population: 2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Right whale population: 7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Bowhead population: 11 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Century Gothic"/>
              </a:rPr>
              <a:t>Gray whale population: 26 4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1cce5"/>
                </a:solidFill>
                <a:uFillTx/>
                <a:latin typeface="Arial"/>
              </a:rPr>
              <a:t>Humpback whale population: 2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Fin whale population : 33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Sei whale population: 54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Bryde's whale population :7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Minke whale population: 970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76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As a result of whaling, 5 of the 13 species of whales are listed as endang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573440"/>
            <a:ext cx="7056720" cy="228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56000" y="33577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1cc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Sperm whale population : 7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41000" y="60199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Blue W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Countries that hunt wh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07920"/>
            <a:ext cx="76327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Ic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2087280" cy="104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2000" y="1052640"/>
            <a:ext cx="2087280" cy="106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2089080" cy="11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419640" y="4076640"/>
            <a:ext cx="5329080" cy="2465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4941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Arial"/>
              </a:rPr>
              <a:t>Countries where whaling is il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5445000"/>
            <a:ext cx="179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276720" y="2421000"/>
            <a:ext cx="2160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42472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oil obtained from the bl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the whale’s m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baleen and ambergris (a perfume ingredient from the intestine of sperm wh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cce5"/>
                </a:solidFill>
                <a:latin typeface="Century Gothic"/>
              </a:rPr>
              <a:t>Used in the creation of toys (domino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60280"/>
            <a:ext cx="79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Countries hunt whales for these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404640"/>
            <a:ext cx="8352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Consequences of w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If humans keep killing whales there will be a very big problem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The whales that are hunted will become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It will wreck our oce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d7f1"/>
                </a:solidFill>
                <a:latin typeface="Century Gothic"/>
              </a:rPr>
              <a:t>It will have an impact on global warming and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46022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5880" cy="5800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692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981000"/>
            <a:ext cx="7559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d7f1"/>
                </a:solidFill>
                <a:latin typeface="Century Gothic"/>
              </a:rPr>
              <a:t>If we do something about this problem and protect the whales, they can increase their population and not become extinct.  Maybe one day your children could see a whale at the beach one 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708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26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484280"/>
            <a:ext cx="662616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Facts and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7d7f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d7f1"/>
                </a:solidFill>
                <a:latin typeface="Century Gothic"/>
              </a:rPr>
              <a:t>Seventeen whale deaths occur every 3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11cce5"/>
                </a:solidFill>
                <a:latin typeface="Century Gothic"/>
              </a:rPr>
              <a:t>Humpback whales could have numbered 1.5 million prior to the onset of commercial whaling in the 180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In the 1900’s there were an estimated 100,000 Humpback wh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Now there are only around 20,000 Humpback wh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1cce5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11cce5"/>
                </a:solidFill>
                <a:latin typeface="Century Gothic"/>
              </a:rPr>
              <a:t>Several species of whale are already on the endangered list, including the Right, Bryde’s Fin. and Sei whales</a:t>
            </a:r>
            <a:r>
              <a:rPr b="1" lang="en-US" sz="1800" spc="-1" strike="noStrike">
                <a:solidFill>
                  <a:srgbClr val="11cce5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7:24:33Z</dcterms:created>
  <dc:creator>Alexander</dc:creator>
  <dc:description/>
  <cp:keywords/>
  <dc:language>en-US</dc:language>
  <cp:lastModifiedBy>Glenn McLeod</cp:lastModifiedBy>
  <dcterms:modified xsi:type="dcterms:W3CDTF">2007-10-07T03:39:10Z</dcterms:modified>
  <cp:revision>22</cp:revision>
  <dc:subject/>
  <dc:title>PowerPoint Presentation  -  Slide 1</dc:title>
</cp:coreProperties>
</file>