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D89-F10D-4E26-93C6-2F0C2068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62F-6A78-4112-8DFB-99D638AE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6AA-4807-4739-8284-5CC4E940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545-5D5E-4033-BF01-9F3B8FC6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75D-4E6D-4573-9860-6524BFF4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95E-A99F-4929-8CD9-314C1B18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821-6516-4D94-8A13-F7D81502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0B5-AB04-42B1-A3AB-FBA6C0F3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35B-9A5D-4445-8516-2AB149E6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CCD-E817-4AC0-A1B1-AF771288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4E3-26EC-4C91-80E3-A9D43EDA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E79-E0C1-45D4-BE8B-36D31829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CD0E-DF4E-4578-9472-377D8631F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694320" cy="3865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0000" y="404640"/>
            <a:ext cx="734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7520">
                  <a:solidFill>
                    <a:srgbClr val="11cce5"/>
                  </a:solidFill>
                  <a:miter/>
                </a:ln>
                <a:solidFill>
                  <a:srgbClr val="5ef1f8"/>
                </a:solidFill>
                <a:latin typeface="Goudy Stout"/>
              </a:rPr>
              <a:t>Whaling</a:t>
            </a:r>
            <a:endParaRPr b="1" lang="en-US" sz="1800" spc="1" strike="noStrike">
              <a:ln w="47520">
                <a:solidFill>
                  <a:srgbClr val="11cce5"/>
                </a:solidFill>
                <a:miter/>
              </a:ln>
              <a:solidFill>
                <a:srgbClr val="5ef1f8"/>
              </a:solidFill>
              <a:latin typeface="Goudy Stout"/>
              <a:ea typeface="Goudy Stout"/>
            </a:endParaRPr>
          </a:p>
        </p:txBody>
      </p:sp>
      <p:sp>
        <p:nvSpPr>
          <p:cNvPr id="44" name=""/>
          <p:cNvSpPr/>
          <p:nvPr/>
        </p:nvSpPr>
        <p:spPr>
          <a:xfrm>
            <a:off x="7093080" y="60930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y Alex &amp; 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170028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Green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The </a:t>
            </a:r>
            <a:r>
              <a:rPr b="1" lang="en-AU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International whaling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Planet 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Wildlife Warrior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WWF ( World Wildlife F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1419120" cy="2038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476280"/>
            <a:ext cx="63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rganisations that are helping the Wh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51280" y="4653000"/>
            <a:ext cx="1523880" cy="1438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732720" y="4437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596360" y="1197000"/>
            <a:ext cx="121104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50920" y="3789360"/>
            <a:ext cx="19447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260280"/>
            <a:ext cx="80852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Some ways that we can help whal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Become an Ocean Defender , get your friends to sign up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cce5"/>
                </a:solidFill>
                <a:latin typeface="Century Gothic"/>
              </a:rPr>
              <a:t>http://www.greenpeace.org/international/getinvolved/sign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Become a wildlife warrior like Bindi Irwin http://www.wildlifewarriors.org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Keep the oceans free of rubbish. Everything you drop on the ground goes into the oc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Spread the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http://www.savethewhale.org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2469" b="0"/>
          <a:stretch/>
        </p:blipFill>
        <p:spPr>
          <a:xfrm>
            <a:off x="5435640" y="2852640"/>
            <a:ext cx="34560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9640" y="189000"/>
            <a:ext cx="7201080" cy="64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Websites to visi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www.greenpeace.org/international/getinvolved/sign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11cce5"/>
                </a:solidFill>
                <a:latin typeface="Arial"/>
                <a:ea typeface="ＭＳ Ｐゴシック"/>
              </a:rPr>
              <a:t>http://www.wildlifewarriors.org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www.savethewhale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oceans.greenpeace.org/en/fun-stu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activism.greenpeace.org/whaleflip/?MM_URL=Whalef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www.whalesrevenge.com/?MM_URL=WhaleRev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activism.greenpeace.org/whaleflip/?MM_URL=Whalef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www.greenpeace.org/international/campaigns/whalevision?MM_URL=Whal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usic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www.greenpeace.org/international/campaigns/whalevision?MM_URL=Whal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360" y="3933720"/>
            <a:ext cx="2376720" cy="1855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71640" y="907920"/>
            <a:ext cx="7157880" cy="14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11cce5"/>
                  </a:solidFill>
                  <a:miter/>
                </a:ln>
                <a:solidFill>
                  <a:srgbClr val="5ef1f8">
                    <a:alpha val="90000"/>
                  </a:srgbClr>
                </a:solidFill>
                <a:latin typeface="Century Gothic"/>
              </a:rPr>
              <a:t>Thanks for Watching</a:t>
            </a:r>
            <a:endParaRPr b="1" lang="en-US" sz="1800" spc="1" strike="noStrike">
              <a:ln w="41400">
                <a:solidFill>
                  <a:srgbClr val="11cce5"/>
                </a:solidFill>
                <a:miter/>
              </a:ln>
              <a:solidFill>
                <a:srgbClr val="5ef1f8">
                  <a:alpha val="90000"/>
                </a:srgbClr>
              </a:solidFill>
              <a:latin typeface="Century Gothic"/>
              <a:ea typeface="Century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-243000"/>
            <a:ext cx="417672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0" spc="-1" strike="noStrike">
                <a:solidFill>
                  <a:srgbClr val="ffff00"/>
                </a:solidFill>
                <a:latin typeface="Arial"/>
                <a:ea typeface="Arial"/>
              </a:rPr>
              <a:t>☺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404640"/>
            <a:ext cx="79930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What is Wha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Humans killing whales in the oce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Humans have been hunting whales for about 6,000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Because of other threats and whaling this has led to at least 5 of the 13 species of whales being listed as endang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2104920" cy="220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3645000"/>
            <a:ext cx="2201760" cy="2303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0" r="25567" b="0"/>
          <a:stretch/>
        </p:blipFill>
        <p:spPr>
          <a:xfrm>
            <a:off x="2916360" y="3573360"/>
            <a:ext cx="3024000" cy="2748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68360" y="4869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486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9640" y="3500280"/>
            <a:ext cx="2016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8900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Species of wh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765000"/>
            <a:ext cx="5329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1cce5"/>
                </a:solidFill>
                <a:uFillTx/>
                <a:latin typeface="Century Gothic"/>
              </a:rPr>
              <a:t>Blue whale population: 2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1cce5"/>
                </a:solidFill>
                <a:uFillTx/>
                <a:latin typeface="Century Gothic"/>
              </a:rPr>
              <a:t>Right whale population: 7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1cce5"/>
                </a:solidFill>
                <a:uFillTx/>
                <a:latin typeface="Century Gothic"/>
              </a:rPr>
              <a:t>Bowhead population: 11 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1cce5"/>
                </a:solidFill>
                <a:uFillTx/>
                <a:latin typeface="Century Gothic"/>
              </a:rPr>
              <a:t>Gray whale population: 26 4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1cce5"/>
                </a:solidFill>
                <a:uFillTx/>
                <a:latin typeface="Arial"/>
              </a:rPr>
              <a:t>Humpback whale population: 2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Fin whale population : 33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Sei whale population: 54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Bryde's whale population :7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Minke whale population: 970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76500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As a result of whaling, 5 of the 13 species of whales are listed as endang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4573440"/>
            <a:ext cx="7056720" cy="228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56000" y="335772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Sperm whale population : 75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41000" y="601992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Blue Wh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Countries that hunt wh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907920"/>
            <a:ext cx="76327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Gre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Ic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No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United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1052640"/>
            <a:ext cx="2087280" cy="104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12000" y="1052640"/>
            <a:ext cx="2087280" cy="106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012000" y="2421000"/>
            <a:ext cx="2089080" cy="11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419640" y="4076640"/>
            <a:ext cx="5329080" cy="2465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49417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Countries where whaling is il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5445000"/>
            <a:ext cx="179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276720" y="2421000"/>
            <a:ext cx="2160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907920"/>
            <a:ext cx="842472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oil obtained from the bl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the whale’s m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baleen and ambergris (a perfume ingredient from the intestine of sperm wha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Used in the creation of toys (domino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60280"/>
            <a:ext cx="7920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Countries hunt whales for these rea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867280" y="2637000"/>
            <a:ext cx="2286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404640"/>
            <a:ext cx="83520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Consequences of w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If humans keep killing whales there will be a very big problem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The whales that are hunted will become 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It will wreck our ocea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It will have an impact on global warming and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24000" y="3573360"/>
            <a:ext cx="46022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05880" cy="5800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69228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981000"/>
            <a:ext cx="7559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d7f1"/>
                </a:solidFill>
                <a:latin typeface="Century Gothic"/>
              </a:rPr>
              <a:t>If we do something about this problem and protect the whales, they can increase their population and not become extinct.  Maybe one day your children could see a whale at the beach one 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708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260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6800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1484280"/>
            <a:ext cx="662616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Facts and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d7f1"/>
                </a:solidFill>
                <a:latin typeface="Century Gothic"/>
              </a:rPr>
              <a:t>Seventeen whale deaths occur every 3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11cce5"/>
                </a:solidFill>
                <a:latin typeface="Century Gothic"/>
              </a:rPr>
              <a:t>Humpback whales could have numbered 1.5 million prior to the onset of commercial whaling in the 180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In the 1900’s there were an estimated 100,000 Humpback wh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Now there are only around 20,000 Humpback wh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11cce5"/>
                </a:solidFill>
                <a:latin typeface="Century Gothic"/>
              </a:rPr>
              <a:t>Several species of whale are already on the endangered list, including the Right, Bryde’s Fin. and Sei whales</a:t>
            </a: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7:24:33Z</dcterms:created>
  <dc:creator>Alexander</dc:creator>
  <dc:description/>
  <cp:keywords/>
  <dc:language>en-US</dc:language>
  <cp:lastModifiedBy>Glenn McLeod</cp:lastModifiedBy>
  <dcterms:modified xsi:type="dcterms:W3CDTF">2007-10-07T03:39:10Z</dcterms:modified>
  <cp:revision>22</cp:revision>
  <dc:subject/>
  <dc:title>PowerPoint Presentation  -  Slide 1</dc:title>
</cp:coreProperties>
</file>